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C67-EE32-4FC8-BE02-6CEA8531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5E2-F13F-49CB-BE56-875BCA0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928-D478-4EAE-9DAB-218C0535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B7E-4948-4A74-BF0C-342737DE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80A-8651-4B35-A79A-6F14DE85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4F9-0273-4F7A-BA30-578065D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5D7-A467-4CDD-BF59-BDEB195A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7F8-2712-4752-BFA3-B8AD873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5C0-A281-4C79-82D6-045D96B8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3A7-3D4F-4114-9941-2B9D6E5F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30C-0361-4B56-B5B6-F3D5B9E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5B9-E245-4454-B34B-E6D03C3C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0FD7-1D7E-408E-8C51-24D331C52D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62916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86200" y="376236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VIDING 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mo-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nth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in Islamic calendar.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Ram-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They are not allowed to eat or drink between dawn and sunset. Fasting strengthens a person by increasing his self-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Islamic calend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am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not allowed to eat or drink between dawn and sunse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ing strengthens a person by increasing his self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not divid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not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does not help you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ab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rsit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ject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inah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8:11:20Z</dcterms:created>
  <dc:creator>Bafayad</dc:creator>
  <dc:description/>
  <dc:language>en-US</dc:language>
  <cp:lastModifiedBy>معمل الانجليزي</cp:lastModifiedBy>
  <dcterms:modified xsi:type="dcterms:W3CDTF">2005-03-19T08:37:29Z</dcterms:modified>
  <cp:revision>11</cp:revision>
  <dc:subject/>
  <dc:title>Ramadan is the ninth mo-  nth in Islamic calendar.  All adult must fast Ram- adan. They are not allowed to eat or drink between dawn and sunset. Fasting strengthens a person by increasing his self-control.</dc:title>
</cp:coreProperties>
</file>